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C37-AE8B-4A6D-B8F3-1D520E5F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4C5-02C6-400D-AAFE-4AE4EA3D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BE6-5F18-4A20-B33E-2FE58E15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199-714B-4051-965C-9F90532B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9EA7-2B83-4EA5-88A6-0159C945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0696-4FD9-4D1E-BD76-1A6215E3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AC76-4C25-4539-837B-76EF108B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8D99-2A5C-4DA0-8C8E-34F008B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E187-88C5-4AD9-A010-FF671EB6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ACC3-CEC0-4ABC-9C27-D2C07E21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7E0A-1176-4F92-84A3-A2B040CF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EDD-6DC6-43B8-B15C-BA5B493C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4985-C4A3-4665-9E3A-99B61FD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76DB-A36C-46B5-ADF8-91DB458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B43-0B94-4BF4-8150-2B175061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523F-3630-496F-8505-979065DB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09B7-5577-4A47-AAD4-E29C0D8A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F74-0F2E-4103-998C-FA174A7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E3A-94AE-41B8-968D-40BBBF7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ED2-AF65-486C-AFDB-BFCC779F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59CE-A535-42CF-83AC-5E3AD221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7ED-DEA5-444F-AC3B-A48F5F2C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CEF-5C60-485D-9900-1137B2A0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A9C-B529-4B3A-9C89-1BBF1E9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572E-24B2-4BB8-AB5C-24C76A8FE34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40" y="2967120"/>
            <a:ext cx="8026560" cy="0"/>
          </a:xfrm>
          <a:prstGeom prst="line">
            <a:avLst/>
          </a:prstGeom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479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AFFE-C573-46BD-9C4E-043C5C42119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ormbase.org/das/genome/wormbase/1" TargetMode="External"/><Relationship Id="rId2" Type="http://schemas.openxmlformats.org/officeDocument/2006/relationships/hyperlink" Target="http://wormbase.org/das/genome/wormbase/1/type/tRN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ormbase.org/das/wormbase/1/genome/feature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914400"/>
            <a:ext cx="762012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istributed Annotation System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Version 2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73152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llen Day, UCLA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thony Cox, EBI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regg Helt, Affymetrix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ndrew Dalke, Dalke Scientific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incoln Stein, CSHL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Comic Sans MS"/>
              </a:rPr>
              <a:t>DAS/1</a:t>
            </a:r>
            <a:endParaRPr b="0" lang="en-US" sz="4000" spc="-1" strike="noStrike">
              <a:solidFill>
                <a:srgbClr val="cc6600"/>
              </a:solidFill>
              <a:latin typeface="Comic Sans M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895120" y="1523880"/>
            <a:ext cx="1415160" cy="1069200"/>
            <a:chOff x="2895120" y="1523880"/>
            <a:chExt cx="1415160" cy="1069200"/>
          </a:xfrm>
        </p:grpSpPr>
        <p:grpSp>
          <p:nvGrpSpPr>
            <p:cNvPr id="87" name=""/>
            <p:cNvGrpSpPr/>
            <p:nvPr/>
          </p:nvGrpSpPr>
          <p:grpSpPr>
            <a:xfrm>
              <a:off x="3276720" y="1523880"/>
              <a:ext cx="530280" cy="806400"/>
              <a:chOff x="3276720" y="1523880"/>
              <a:chExt cx="530280" cy="806400"/>
            </a:xfrm>
          </p:grpSpPr>
          <p:sp>
            <p:nvSpPr>
              <p:cNvPr id="88" name=""/>
              <p:cNvSpPr/>
              <p:nvPr/>
            </p:nvSpPr>
            <p:spPr>
              <a:xfrm>
                <a:off x="327672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595959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33864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3307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7516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895120" y="2286000"/>
              <a:ext cx="141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ference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62320" y="2590560"/>
            <a:ext cx="1218960" cy="1295280"/>
            <a:chOff x="2362320" y="2590560"/>
            <a:chExt cx="1218960" cy="1295280"/>
          </a:xfrm>
        </p:grpSpPr>
        <p:sp>
          <p:nvSpPr>
            <p:cNvPr id="94" name=""/>
            <p:cNvSpPr/>
            <p:nvPr/>
          </p:nvSpPr>
          <p:spPr>
            <a:xfrm flipV="1">
              <a:off x="2362320" y="3200040"/>
              <a:ext cx="0" cy="6858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62320" y="3200400"/>
              <a:ext cx="12189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8128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52280" y="3962520"/>
            <a:ext cx="457200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41972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495680"/>
            <a:ext cx="16002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572000"/>
            <a:ext cx="1143000" cy="0"/>
          </a:xfrm>
          <a:prstGeom prst="line">
            <a:avLst/>
          </a:prstGeom>
          <a:ln w="381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240" y="41148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302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10720" y="426708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AC0051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5720" y="419112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M1015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33720" y="5556240"/>
            <a:ext cx="603000" cy="1149120"/>
            <a:chOff x="2133720" y="5556240"/>
            <a:chExt cx="603000" cy="1149120"/>
          </a:xfrm>
        </p:grpSpPr>
        <p:grpSp>
          <p:nvGrpSpPr>
            <p:cNvPr id="105" name=""/>
            <p:cNvGrpSpPr/>
            <p:nvPr/>
          </p:nvGrpSpPr>
          <p:grpSpPr>
            <a:xfrm>
              <a:off x="2133720" y="6013440"/>
              <a:ext cx="603000" cy="691920"/>
              <a:chOff x="2133720" y="6013440"/>
              <a:chExt cx="603000" cy="691920"/>
            </a:xfrm>
          </p:grpSpPr>
          <p:sp>
            <p:nvSpPr>
              <p:cNvPr id="106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15244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13372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3964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2236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0788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060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2696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22696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6512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4784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5396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20788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cap="rnd"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 flipV="1">
              <a:off x="2438280" y="555624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24280" y="1523880"/>
            <a:ext cx="1524240" cy="1067760"/>
            <a:chOff x="4724280" y="1523880"/>
            <a:chExt cx="1524240" cy="1067760"/>
          </a:xfrm>
        </p:grpSpPr>
        <p:grpSp>
          <p:nvGrpSpPr>
            <p:cNvPr id="126" name=""/>
            <p:cNvGrpSpPr/>
            <p:nvPr/>
          </p:nvGrpSpPr>
          <p:grpSpPr>
            <a:xfrm>
              <a:off x="5181480" y="1523880"/>
              <a:ext cx="530280" cy="806400"/>
              <a:chOff x="5181480" y="1523880"/>
              <a:chExt cx="530280" cy="806400"/>
            </a:xfrm>
          </p:grpSpPr>
          <p:sp>
            <p:nvSpPr>
              <p:cNvPr id="127" name=""/>
              <p:cNvSpPr/>
              <p:nvPr/>
            </p:nvSpPr>
            <p:spPr>
              <a:xfrm>
                <a:off x="518148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4340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23548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7992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724280" y="2286000"/>
              <a:ext cx="152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81280" y="2590560"/>
            <a:ext cx="1905120" cy="609840"/>
            <a:chOff x="3581280" y="2590560"/>
            <a:chExt cx="1905120" cy="609840"/>
          </a:xfrm>
        </p:grpSpPr>
        <p:sp>
          <p:nvSpPr>
            <p:cNvPr id="133" name=""/>
            <p:cNvSpPr/>
            <p:nvPr/>
          </p:nvSpPr>
          <p:spPr>
            <a:xfrm flipH="1">
              <a:off x="3581280" y="3200400"/>
              <a:ext cx="19051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864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523880"/>
            <a:ext cx="1523880" cy="1067760"/>
            <a:chOff x="6858000" y="1523880"/>
            <a:chExt cx="1523880" cy="1067760"/>
          </a:xfrm>
        </p:grpSpPr>
        <p:grpSp>
          <p:nvGrpSpPr>
            <p:cNvPr id="136" name=""/>
            <p:cNvGrpSpPr/>
            <p:nvPr/>
          </p:nvGrpSpPr>
          <p:grpSpPr>
            <a:xfrm>
              <a:off x="7315200" y="1523880"/>
              <a:ext cx="530280" cy="806400"/>
              <a:chOff x="7315200" y="1523880"/>
              <a:chExt cx="530280" cy="806400"/>
            </a:xfrm>
          </p:grpSpPr>
          <p:sp>
            <p:nvSpPr>
              <p:cNvPr id="137" name=""/>
              <p:cNvSpPr/>
              <p:nvPr/>
            </p:nvSpPr>
            <p:spPr>
              <a:xfrm>
                <a:off x="73152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3771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3692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36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68580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00600" y="3962520"/>
            <a:ext cx="4261320" cy="1447560"/>
            <a:chOff x="4800600" y="3962520"/>
            <a:chExt cx="4261320" cy="1447560"/>
          </a:xfrm>
        </p:grpSpPr>
        <p:grpSp>
          <p:nvGrpSpPr>
            <p:cNvPr id="143" name=""/>
            <p:cNvGrpSpPr/>
            <p:nvPr/>
          </p:nvGrpSpPr>
          <p:grpSpPr>
            <a:xfrm>
              <a:off x="4800600" y="3962520"/>
              <a:ext cx="4191120" cy="1447560"/>
              <a:chOff x="4800600" y="3962520"/>
              <a:chExt cx="4191120" cy="1447560"/>
            </a:xfrm>
          </p:grpSpPr>
          <p:sp>
            <p:nvSpPr>
              <p:cNvPr id="144" name=""/>
              <p:cNvSpPr/>
              <p:nvPr/>
            </p:nvSpPr>
            <p:spPr>
              <a:xfrm>
                <a:off x="4800600" y="3962520"/>
                <a:ext cx="419112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29200" y="441972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4495680"/>
                <a:ext cx="160020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77320" y="4572000"/>
                <a:ext cx="838080" cy="0"/>
              </a:xfrm>
              <a:prstGeom prst="line">
                <a:avLst/>
              </a:prstGeom>
              <a:ln w="3816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63200" y="4114800"/>
                <a:ext cx="102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AC00302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54040" y="4191120"/>
                <a:ext cx="85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entury Schoolbook"/>
                  </a:rPr>
                  <a:t>M1015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78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7150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8168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8660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077320" y="4952880"/>
                <a:ext cx="228600" cy="228600"/>
              </a:xfrm>
              <a:custGeom>
                <a:avLst/>
                <a:gdLst>
                  <a:gd name="textAreaLeft" fmla="*/ 94320 w 228600"/>
                  <a:gd name="textAreaRight" fmla="*/ 134280 w 22860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6633"/>
              </a:solidFill>
              <a:ln w="12600">
                <a:solidFill>
                  <a:srgbClr val="ff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181480" y="4800600"/>
                <a:ext cx="365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41008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60199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9343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8487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800100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8534520" y="4724280"/>
                <a:ext cx="0" cy="15264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111640" y="4572000"/>
                <a:ext cx="627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1029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31920" y="4572000"/>
                <a:ext cx="656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820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645600" y="4572000"/>
                <a:ext cx="727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AFM1126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551000" y="4572000"/>
                <a:ext cx="555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entury Schoolbook"/>
                  </a:rPr>
                  <a:t>WI443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041320" y="4267080"/>
              <a:ext cx="102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AC0051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7200" y="1523880"/>
            <a:ext cx="1523880" cy="1067760"/>
            <a:chOff x="457200" y="1523880"/>
            <a:chExt cx="1523880" cy="1067760"/>
          </a:xfrm>
        </p:grpSpPr>
        <p:grpSp>
          <p:nvGrpSpPr>
            <p:cNvPr id="168" name=""/>
            <p:cNvGrpSpPr/>
            <p:nvPr/>
          </p:nvGrpSpPr>
          <p:grpSpPr>
            <a:xfrm>
              <a:off x="914400" y="1523880"/>
              <a:ext cx="530280" cy="806400"/>
              <a:chOff x="914400" y="1523880"/>
              <a:chExt cx="530280" cy="806400"/>
            </a:xfrm>
          </p:grpSpPr>
          <p:sp>
            <p:nvSpPr>
              <p:cNvPr id="169" name=""/>
              <p:cNvSpPr/>
              <p:nvPr/>
            </p:nvSpPr>
            <p:spPr>
              <a:xfrm>
                <a:off x="914400" y="1523880"/>
                <a:ext cx="530280" cy="8064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b1b16a"/>
                  </a:gs>
                </a:gsLst>
                <a:lin ang="81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76320" y="1658880"/>
                <a:ext cx="3938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6840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212840" y="1896840"/>
                <a:ext cx="184320" cy="0"/>
              </a:xfrm>
              <a:prstGeom prst="line">
                <a:avLst/>
              </a:prstGeom>
              <a:ln w="507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57200" y="2286000"/>
              <a:ext cx="1523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 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142640" y="2590560"/>
            <a:ext cx="1219320" cy="609840"/>
            <a:chOff x="1142640" y="2590560"/>
            <a:chExt cx="1219320" cy="609840"/>
          </a:xfrm>
        </p:grpSpPr>
        <p:sp>
          <p:nvSpPr>
            <p:cNvPr id="175" name=""/>
            <p:cNvSpPr/>
            <p:nvPr/>
          </p:nvSpPr>
          <p:spPr>
            <a:xfrm flipH="1">
              <a:off x="1142640" y="3200400"/>
              <a:ext cx="12193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43000" y="259056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57200" y="4724280"/>
            <a:ext cx="3809880" cy="76320"/>
            <a:chOff x="457200" y="4724280"/>
            <a:chExt cx="3809880" cy="76320"/>
          </a:xfrm>
        </p:grpSpPr>
        <p:sp>
          <p:nvSpPr>
            <p:cNvPr id="178" name=""/>
            <p:cNvSpPr/>
            <p:nvPr/>
          </p:nvSpPr>
          <p:spPr>
            <a:xfrm>
              <a:off x="4572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800600"/>
              <a:ext cx="30492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4080" y="4800600"/>
              <a:ext cx="3812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762120" y="4724280"/>
              <a:ext cx="380520" cy="76320"/>
              <a:chOff x="762120" y="4724280"/>
              <a:chExt cx="380520" cy="76320"/>
            </a:xfrm>
          </p:grpSpPr>
          <p:sp>
            <p:nvSpPr>
              <p:cNvPr id="185" name=""/>
              <p:cNvSpPr/>
              <p:nvPr/>
            </p:nvSpPr>
            <p:spPr>
              <a:xfrm flipV="1">
                <a:off x="7621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9475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666880" y="4724280"/>
              <a:ext cx="75960" cy="76320"/>
              <a:chOff x="2666880" y="4724280"/>
              <a:chExt cx="75960" cy="76320"/>
            </a:xfrm>
          </p:grpSpPr>
          <p:sp>
            <p:nvSpPr>
              <p:cNvPr id="188" name=""/>
              <p:cNvSpPr/>
              <p:nvPr/>
            </p:nvSpPr>
            <p:spPr>
              <a:xfrm flipV="1">
                <a:off x="266688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2703600" y="4724280"/>
                <a:ext cx="3924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895480" y="4724280"/>
              <a:ext cx="227880" cy="76320"/>
              <a:chOff x="2895480" y="4724280"/>
              <a:chExt cx="227880" cy="7632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289548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3006360" y="4724280"/>
                <a:ext cx="11700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447920" y="4724280"/>
              <a:ext cx="380520" cy="76320"/>
              <a:chOff x="1447920" y="4724280"/>
              <a:chExt cx="380520" cy="7632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14479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1633320" y="4724280"/>
                <a:ext cx="195120" cy="7632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114800" y="4800600"/>
              <a:ext cx="1522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9480" y="4952880"/>
            <a:ext cx="3886200" cy="228600"/>
            <a:chOff x="609480" y="4952880"/>
            <a:chExt cx="3886200" cy="228600"/>
          </a:xfrm>
        </p:grpSpPr>
        <p:sp>
          <p:nvSpPr>
            <p:cNvPr id="198" name=""/>
            <p:cNvSpPr/>
            <p:nvPr/>
          </p:nvSpPr>
          <p:spPr>
            <a:xfrm>
              <a:off x="6094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66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82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2900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4952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33"/>
            </a:solidFill>
            <a:ln w="1260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35880" y="5556240"/>
            <a:ext cx="603000" cy="1149120"/>
            <a:chOff x="6635880" y="5556240"/>
            <a:chExt cx="603000" cy="1149120"/>
          </a:xfrm>
        </p:grpSpPr>
        <p:grpSp>
          <p:nvGrpSpPr>
            <p:cNvPr id="205" name=""/>
            <p:cNvGrpSpPr/>
            <p:nvPr/>
          </p:nvGrpSpPr>
          <p:grpSpPr>
            <a:xfrm>
              <a:off x="6635880" y="6013440"/>
              <a:ext cx="603000" cy="691920"/>
              <a:chOff x="6635880" y="6013440"/>
              <a:chExt cx="603000" cy="691920"/>
            </a:xfrm>
          </p:grpSpPr>
          <p:sp>
            <p:nvSpPr>
              <p:cNvPr id="206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17"/>
                    </a:lnTo>
                    <a:lnTo>
                      <a:pt x="0" y="329"/>
                    </a:lnTo>
                    <a:lnTo>
                      <a:pt x="0" y="329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54600" y="6013440"/>
                <a:ext cx="583920" cy="542880"/>
              </a:xfrm>
              <a:custGeom>
                <a:avLst/>
                <a:gdLst/>
                <a:ahLst/>
                <a:rect l="l" t="t" r="r" b="b"/>
                <a:pathLst>
                  <a:path w="368" h="342">
                    <a:moveTo>
                      <a:pt x="0" y="317"/>
                    </a:moveTo>
                    <a:lnTo>
                      <a:pt x="0" y="329"/>
                    </a:lnTo>
                    <a:lnTo>
                      <a:pt x="11" y="341"/>
                    </a:lnTo>
                    <a:lnTo>
                      <a:pt x="355" y="341"/>
                    </a:lnTo>
                    <a:lnTo>
                      <a:pt x="367" y="329"/>
                    </a:lnTo>
                    <a:lnTo>
                      <a:pt x="367" y="317"/>
                    </a:lnTo>
                    <a:lnTo>
                      <a:pt x="367" y="23"/>
                    </a:lnTo>
                    <a:lnTo>
                      <a:pt x="367" y="11"/>
                    </a:lnTo>
                    <a:lnTo>
                      <a:pt x="355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35880" y="6013440"/>
                <a:ext cx="603000" cy="525240"/>
              </a:xfrm>
              <a:custGeom>
                <a:avLst/>
                <a:gdLst/>
                <a:ahLst/>
                <a:rect l="l" t="t" r="r" b="b"/>
                <a:pathLst>
                  <a:path w="380" h="331">
                    <a:moveTo>
                      <a:pt x="0" y="318"/>
                    </a:moveTo>
                    <a:lnTo>
                      <a:pt x="11" y="330"/>
                    </a:lnTo>
                    <a:lnTo>
                      <a:pt x="23" y="330"/>
                    </a:lnTo>
                    <a:lnTo>
                      <a:pt x="355" y="330"/>
                    </a:lnTo>
                    <a:lnTo>
                      <a:pt x="367" y="330"/>
                    </a:lnTo>
                    <a:lnTo>
                      <a:pt x="379" y="318"/>
                    </a:lnTo>
                    <a:lnTo>
                      <a:pt x="379" y="23"/>
                    </a:lnTo>
                    <a:lnTo>
                      <a:pt x="379" y="11"/>
                    </a:lnTo>
                    <a:lnTo>
                      <a:pt x="367" y="0"/>
                    </a:lnTo>
                    <a:lnTo>
                      <a:pt x="355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31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41800" y="6610320"/>
                <a:ext cx="207720" cy="95040"/>
              </a:xfrm>
              <a:custGeom>
                <a:avLst/>
                <a:gdLst/>
                <a:ahLst/>
                <a:rect l="l" t="t" r="r" b="b"/>
                <a:pathLst>
                  <a:path w="131" h="60">
                    <a:moveTo>
                      <a:pt x="0" y="59"/>
                    </a:moveTo>
                    <a:lnTo>
                      <a:pt x="0" y="0"/>
                    </a:lnTo>
                    <a:lnTo>
                      <a:pt x="130" y="0"/>
                    </a:lnTo>
                    <a:lnTo>
                      <a:pt x="130" y="59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824520" y="6592680"/>
                <a:ext cx="225000" cy="93600"/>
              </a:xfrm>
              <a:custGeom>
                <a:avLst/>
                <a:gdLst/>
                <a:ahLst/>
                <a:rect l="l" t="t" r="r" b="b"/>
                <a:pathLst>
                  <a:path w="142" h="59">
                    <a:moveTo>
                      <a:pt x="0" y="58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41" y="58"/>
                    </a:lnTo>
                    <a:lnTo>
                      <a:pt x="0" y="5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47"/>
                    </a:lnTo>
                    <a:lnTo>
                      <a:pt x="0" y="259"/>
                    </a:lnTo>
                    <a:lnTo>
                      <a:pt x="0" y="259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10040" y="6068880"/>
                <a:ext cx="471240" cy="431640"/>
              </a:xfrm>
              <a:custGeom>
                <a:avLst/>
                <a:gdLst/>
                <a:ahLst/>
                <a:rect l="l" t="t" r="r" b="b"/>
                <a:pathLst>
                  <a:path w="297" h="272">
                    <a:moveTo>
                      <a:pt x="0" y="247"/>
                    </a:moveTo>
                    <a:lnTo>
                      <a:pt x="0" y="259"/>
                    </a:lnTo>
                    <a:lnTo>
                      <a:pt x="11" y="271"/>
                    </a:lnTo>
                    <a:lnTo>
                      <a:pt x="284" y="271"/>
                    </a:lnTo>
                    <a:lnTo>
                      <a:pt x="296" y="259"/>
                    </a:lnTo>
                    <a:lnTo>
                      <a:pt x="296" y="247"/>
                    </a:lnTo>
                    <a:lnTo>
                      <a:pt x="296" y="23"/>
                    </a:lnTo>
                    <a:lnTo>
                      <a:pt x="296" y="11"/>
                    </a:lnTo>
                    <a:lnTo>
                      <a:pt x="284" y="11"/>
                    </a:lnTo>
                    <a:lnTo>
                      <a:pt x="284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0" y="247"/>
                    </a:lnTo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92760" y="6068880"/>
                <a:ext cx="488520" cy="412920"/>
              </a:xfrm>
              <a:custGeom>
                <a:avLst/>
                <a:gdLst/>
                <a:ahLst/>
                <a:rect l="l" t="t" r="r" b="b"/>
                <a:pathLst>
                  <a:path w="308" h="260">
                    <a:moveTo>
                      <a:pt x="0" y="247"/>
                    </a:moveTo>
                    <a:lnTo>
                      <a:pt x="11" y="259"/>
                    </a:lnTo>
                    <a:lnTo>
                      <a:pt x="23" y="259"/>
                    </a:lnTo>
                    <a:lnTo>
                      <a:pt x="283" y="259"/>
                    </a:lnTo>
                    <a:lnTo>
                      <a:pt x="295" y="259"/>
                    </a:lnTo>
                    <a:lnTo>
                      <a:pt x="295" y="247"/>
                    </a:lnTo>
                    <a:lnTo>
                      <a:pt x="307" y="247"/>
                    </a:lnTo>
                    <a:lnTo>
                      <a:pt x="307" y="11"/>
                    </a:lnTo>
                    <a:lnTo>
                      <a:pt x="295" y="11"/>
                    </a:lnTo>
                    <a:lnTo>
                      <a:pt x="295" y="0"/>
                    </a:lnTo>
                    <a:lnTo>
                      <a:pt x="283" y="0"/>
                    </a:lnTo>
                    <a:lnTo>
                      <a:pt x="23" y="0"/>
                    </a:lnTo>
                    <a:lnTo>
                      <a:pt x="11" y="0"/>
                    </a:lnTo>
                    <a:lnTo>
                      <a:pt x="0" y="11"/>
                    </a:lnTo>
                    <a:lnTo>
                      <a:pt x="0" y="2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0" y="11"/>
                    </a:lnTo>
                    <a:lnTo>
                      <a:pt x="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29120" y="6107040"/>
                <a:ext cx="434880" cy="355680"/>
              </a:xfrm>
              <a:custGeom>
                <a:avLst/>
                <a:gdLst/>
                <a:ahLst/>
                <a:rect l="l" t="t" r="r" b="b"/>
                <a:pathLst>
                  <a:path w="274" h="224">
                    <a:moveTo>
                      <a:pt x="0" y="11"/>
                    </a:moveTo>
                    <a:lnTo>
                      <a:pt x="11" y="11"/>
                    </a:lnTo>
                    <a:lnTo>
                      <a:pt x="11" y="0"/>
                    </a:lnTo>
                    <a:lnTo>
                      <a:pt x="23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73" y="11"/>
                    </a:lnTo>
                    <a:lnTo>
                      <a:pt x="273" y="211"/>
                    </a:lnTo>
                    <a:lnTo>
                      <a:pt x="261" y="223"/>
                    </a:lnTo>
                    <a:lnTo>
                      <a:pt x="249" y="223"/>
                    </a:lnTo>
                    <a:lnTo>
                      <a:pt x="23" y="223"/>
                    </a:lnTo>
                    <a:lnTo>
                      <a:pt x="11" y="223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729120" y="6107040"/>
                <a:ext cx="415800" cy="336600"/>
              </a:xfrm>
              <a:custGeom>
                <a:avLst/>
                <a:gdLst/>
                <a:ahLst/>
                <a:rect l="l" t="t" r="r" b="b"/>
                <a:pathLst>
                  <a:path w="262" h="212">
                    <a:moveTo>
                      <a:pt x="0" y="11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249" y="0"/>
                    </a:lnTo>
                    <a:lnTo>
                      <a:pt x="261" y="0"/>
                    </a:lnTo>
                    <a:lnTo>
                      <a:pt x="261" y="11"/>
                    </a:lnTo>
                    <a:lnTo>
                      <a:pt x="261" y="211"/>
                    </a:lnTo>
                    <a:lnTo>
                      <a:pt x="249" y="211"/>
                    </a:lnTo>
                    <a:lnTo>
                      <a:pt x="11" y="211"/>
                    </a:lnTo>
                    <a:lnTo>
                      <a:pt x="0" y="211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2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224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767280" y="6554520"/>
                <a:ext cx="356760" cy="57240"/>
              </a:xfrm>
              <a:custGeom>
                <a:avLst/>
                <a:gdLst/>
                <a:ahLst/>
                <a:rect l="l" t="t" r="r" b="b"/>
                <a:pathLst>
                  <a:path w="225" h="36">
                    <a:moveTo>
                      <a:pt x="0" y="23"/>
                    </a:moveTo>
                    <a:lnTo>
                      <a:pt x="0" y="35"/>
                    </a:lnTo>
                    <a:lnTo>
                      <a:pt x="224" y="35"/>
                    </a:lnTo>
                    <a:lnTo>
                      <a:pt x="224" y="23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750000" y="6537240"/>
                <a:ext cx="374040" cy="57240"/>
              </a:xfrm>
              <a:custGeom>
                <a:avLst/>
                <a:gdLst/>
                <a:ahLst/>
                <a:rect l="l" t="t" r="r" b="b"/>
                <a:pathLst>
                  <a:path w="236" h="36">
                    <a:moveTo>
                      <a:pt x="0" y="35"/>
                    </a:moveTo>
                    <a:lnTo>
                      <a:pt x="223" y="35"/>
                    </a:lnTo>
                    <a:lnTo>
                      <a:pt x="235" y="35"/>
                    </a:lnTo>
                    <a:lnTo>
                      <a:pt x="235" y="0"/>
                    </a:lnTo>
                    <a:lnTo>
                      <a:pt x="0" y="0"/>
                    </a:lnTo>
                    <a:lnTo>
                      <a:pt x="0" y="3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756120" y="6673680"/>
                <a:ext cx="380880" cy="23760"/>
              </a:xfrm>
              <a:prstGeom prst="rect">
                <a:avLst/>
              </a:prstGeom>
              <a:solidFill>
                <a:srgbClr val="b3b3b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23" y="23"/>
                    </a:lnTo>
                    <a:lnTo>
                      <a:pt x="23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5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710040" y="6087960"/>
                <a:ext cx="453960" cy="38160"/>
              </a:xfrm>
              <a:custGeom>
                <a:avLst/>
                <a:gdLst/>
                <a:ahLst/>
                <a:rect l="l" t="t" r="r" b="b"/>
                <a:pathLst>
                  <a:path w="286" h="24">
                    <a:moveTo>
                      <a:pt x="23" y="23"/>
                    </a:moveTo>
                    <a:lnTo>
                      <a:pt x="0" y="0"/>
                    </a:lnTo>
                    <a:lnTo>
                      <a:pt x="285" y="0"/>
                    </a:lnTo>
                    <a:lnTo>
                      <a:pt x="273" y="23"/>
                    </a:lnTo>
                    <a:lnTo>
                      <a:pt x="23" y="2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6940440" y="555624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733560" y="2590920"/>
            <a:ext cx="3886560" cy="1295280"/>
            <a:chOff x="3733560" y="2590920"/>
            <a:chExt cx="3886560" cy="1295280"/>
          </a:xfrm>
        </p:grpSpPr>
        <p:sp>
          <p:nvSpPr>
            <p:cNvPr id="226" name=""/>
            <p:cNvSpPr/>
            <p:nvPr/>
          </p:nvSpPr>
          <p:spPr>
            <a:xfrm flipV="1">
              <a:off x="76201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3505320"/>
              <a:ext cx="3886200" cy="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7339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562720" y="2590920"/>
              <a:ext cx="0" cy="91440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010280" y="3505320"/>
              <a:ext cx="0" cy="380880"/>
            </a:xfrm>
            <a:prstGeom prst="line">
              <a:avLst/>
            </a:prstGeom>
            <a:ln w="381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615080" cy="6389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rcRect l="17010" t="46509" r="67983" b="28447"/>
          <a:stretch/>
        </p:blipFill>
        <p:spPr>
          <a:xfrm>
            <a:off x="1676520" y="3124080"/>
            <a:ext cx="201456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EnsEMBL 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55760" y="227160"/>
            <a:ext cx="7615080" cy="6389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eficiencies of DAS/1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Format for representing genomic features too rigid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escription of genomic features too flexible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IDs for genomic features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No write-back.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DAS/2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ess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Multiple formats for representing genomic features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rbitrary nesting of features..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AS/2 More Rigid</a:t>
            </a:r>
            <a:endParaRPr b="0" lang="en-US" sz="32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Uses Sequence Ontology (SO) for describing featur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ady to accept attribute ontologies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660960" indent="-25416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dd your own ontology, but publish it!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REST-Style IDs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Data Sourc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genome/wormbase/1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 Typ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/>
              </a:rPr>
              <a:t>http://wormbase.org/das/genome/wormbase/1/type/tRNA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ressing a Feature</a:t>
            </a:r>
            <a:endParaRPr b="0" lang="en-US" sz="28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http://wormbase.org/das/genome/wormbase/1/feature/gene0038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Comic Sans MS"/>
              </a:rPr>
              <a:t>Write-Back</a:t>
            </a:r>
            <a:endParaRPr b="0" lang="en-US" sz="44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UT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Update identified feature 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POST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1"/>
              </a:rPr>
              <a:t>http://wormbase.org/das/wormbase/1/genome/feature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Crea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DELETE http://wormbase.org/das/wormbase/1/genome/feature/M7.1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Delete feature</a:t>
            </a:r>
            <a:endParaRPr b="0" lang="en-US" sz="18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Comic Sans MS"/>
              </a:rPr>
              <a:t>Progress</a:t>
            </a:r>
            <a:endParaRPr b="0" lang="en-US" sz="3600" spc="-1" strike="noStrike">
              <a:solidFill>
                <a:srgbClr val="cc66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raft spec up and ready for comments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http://www.biodas.org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Server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Allen Day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lient prototype up and running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See Gregg Helt</a:t>
            </a:r>
            <a:endParaRPr b="0" lang="en-US" sz="2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roject still in flux</a:t>
            </a:r>
            <a:endParaRPr b="0" lang="en-US" sz="2400" spc="-1" strike="noStrike">
              <a:solidFill>
                <a:srgbClr val="0000ff"/>
              </a:solidFill>
              <a:latin typeface="Comic Sans MS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Authorized User</dc:creator>
  <dc:description/>
  <dc:language>en-US</dc:language>
  <cp:lastModifiedBy> </cp:lastModifiedBy>
  <cp:lastPrinted>1998-10-28T21:29:29Z</cp:lastPrinted>
  <dcterms:modified xsi:type="dcterms:W3CDTF">2005-05-18T01:09:44Z</dcterms:modified>
  <cp:revision>698</cp:revision>
  <dc:subject/>
  <dc:title>Training</dc:title>
</cp:coreProperties>
</file>